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D9A-7829-43ED-A5BC-B9C49A0B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926-0DA0-4AC8-BC1B-C791118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F77-5435-43B4-AC66-73A9FED2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650-93D8-4899-8A15-67F970BB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C76-83A6-4287-9351-BF458CE2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590-D7BF-49BC-B507-6F1D5EC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501-7D4A-44F3-81AD-D61A12B0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21E-C67E-479B-90DA-57AD12B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844-3034-48A9-A29B-4F55C5B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CC3-9A02-4750-9839-D154DD6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B92-142B-4744-B018-796D64D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553-3CD1-4224-828F-FDE8D4A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AC5-C22B-4B58-81A4-BCFD4B5F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228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304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3880" y="228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124080"/>
            <a:ext cx="1904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Patrick J. Mooney</cp:lastModifiedBy>
  <dcterms:modified xsi:type="dcterms:W3CDTF">2011-09-26T18:17:22Z</dcterms:modified>
  <cp:revision>13</cp:revision>
  <dc:subject/>
  <dc:title>Slide 1</dc:title>
</cp:coreProperties>
</file>